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D3DB-ED66-4B6D-94F0-180BED91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DCAE-8A6A-451B-AFD4-5DD560798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ydroponicsequipment.co/plant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9AE0-B2F9-4EBA-8AA0-9CE89FA1B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xtremepapers.com/revision/gcse/biology/reprodu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FF2D-5DC1-4AF4-910A-D51A113FE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2geneticswikib.wikispaces.com/Sexual+and+Asexual+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rtchat.com/info/propagating-kalanc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F6E-2EB6-48BA-877B-C30244F6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5380-46A8-4AA4-9FCA-193654B7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A/AsexualReprodu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 tree image from: http://www.theresiliencyinstitute.net/fruit-tree-graf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interested, a lot of information about growing apples &amp; why grafting is used 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ardyfruittrees.ca/tutorials/2014/01/16/why-are-fruit-trees-g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EB6-ABD8-44AA-9043-9C913D5A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45D-8E65-4FF8-B8C8-01031E27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72C-05CB-4AC2-96CF-195EAC24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A98-CE1A-4BEE-9FD5-D82193AB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CE4-6473-41CD-A352-275452C5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B59-CB5B-4A08-AA9F-FAE68C93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915-67B6-41C1-9D49-82C067D5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479-EB77-4C3B-9BE7-802BFB7D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DFE-F2B8-4BFC-BD71-8BDDE41A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4D1-A149-4FCA-86BD-352A7AF9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382-701F-441A-BE2B-653E742B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EBB-682F-47F0-A028-71E17E2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CAED-8C4C-4C95-A99F-606B983C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exual Reproduction in Seed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 plants reproduce both sexually &amp;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structures on stems, leaves, or roots t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 grow through mitosis &amp; cell division of existing cells, so offspring are c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sexual_reproduction_in_potato_plants"/>
          <p:cNvPicPr/>
          <p:nvPr/>
        </p:nvPicPr>
        <p:blipFill>
          <a:blip r:embed="rId1"/>
          <a:stretch/>
        </p:blipFill>
        <p:spPr>
          <a:xfrm>
            <a:off x="693720" y="609480"/>
            <a:ext cx="775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creen_shot_2011-11-30_at_1"/>
          <p:cNvPicPr/>
          <p:nvPr/>
        </p:nvPicPr>
        <p:blipFill>
          <a:blip r:embed="rId1"/>
          <a:stretch/>
        </p:blipFill>
        <p:spPr>
          <a:xfrm>
            <a:off x="685800" y="1554120"/>
            <a:ext cx="77724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rent plan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less energy &amp;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rental traits are well-suited to environment, offspring will also be well-s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lets survive better than seedlings from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genetic divers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ntire population being wi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t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produce new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f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ranches of trees onto other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ssu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reproduce orchi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2" descr="300x200xprop-kalanchoe-300x200.jpg.pagespeed.ic.TT8zDQ4tvU.jpg"/>
          <p:cNvPicPr/>
          <p:nvPr/>
        </p:nvPicPr>
        <p:blipFill>
          <a:blip r:embed="rId1"/>
          <a:srcRect l="19136" t="0" r="1913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5" descr="Grafting.gif"/>
          <p:cNvPicPr/>
          <p:nvPr/>
        </p:nvPicPr>
        <p:blipFill>
          <a:blip r:embed="rId1"/>
          <a:srcRect l="0" t="-18691" r="0" b="-18691"/>
          <a:stretch/>
        </p:blipFill>
        <p:spPr>
          <a:xfrm>
            <a:off x="611280" y="549360"/>
            <a:ext cx="3884400" cy="55465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6" descr="dwarf-pear-tree-2-types.jpg"/>
          <p:cNvPicPr/>
          <p:nvPr/>
        </p:nvPicPr>
        <p:blipFill>
          <a:blip r:embed="rId2"/>
          <a:srcRect l="15610" t="0" r="15610" b="0"/>
          <a:stretch/>
        </p:blipFill>
        <p:spPr>
          <a:xfrm>
            <a:off x="4643280" y="549360"/>
            <a:ext cx="381492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1:15:55Z</dcterms:created>
  <dc:creator>rubina khan</dc:creator>
  <dc:description/>
  <dc:language>en-US</dc:language>
  <cp:lastModifiedBy>rubina khan</cp:lastModifiedBy>
  <dcterms:modified xsi:type="dcterms:W3CDTF">2016-11-28T03:37:47Z</dcterms:modified>
  <cp:revision>47</cp:revision>
  <dc:subject/>
  <dc:title>Succession</dc:title>
</cp:coreProperties>
</file>